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4482-7185-4794-8540-559561C56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735F-2098-4864-ADAB-5FE12EFC5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BC3E-EC1E-4567-8630-8304F420B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D637-F813-4D48-A914-BD4A6CC34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4C60-2FFE-4661-804F-ADAAA1608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9DCE-8526-4B93-A6AF-87B25607F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D99B-92B7-4BE7-91D5-783FDB386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0B0F-660A-40FE-BA9C-2222BEF67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FF5B-49E3-4ADF-929B-8A270A77F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FCB3-38AC-4C5C-B0A7-5E7761402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5055-0A71-4AE7-B9FE-1DA636823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E8BF-01CA-440B-8C17-546192EF2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E839-48AC-49BA-A220-018E8406E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A106-3721-45C2-B303-44E1A8BA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FB82-F181-4F06-9B2E-0B065BFCF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B56A-3181-4CB2-A1F7-63A402E41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C5BA-07D8-40AC-98E7-97F11337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7849-E6C4-4FAC-9D34-8D06B79F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4D4C-8CA1-41A3-8FBE-A3C17F13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8748-13F2-43C5-8F66-D0AD6DA4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44ED-EBB6-4AD2-961F-606111A8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818B-A326-4533-B1BB-2F664AA0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05F4-70D6-4567-BDB8-0CB1B942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81C0-975F-4C36-BD77-7B2FAD3F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FD92-FB8D-422E-B75D-B41B23137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ing Performance Assessme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When students try to solve real-life problems, they see the relevance of schoolwork and are more likely to transfer the content and skills they learn in class by applying them to real problems or challeng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y Burke,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(s) you will be address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ill use case studies of individual explorers to compare the goals, obstacles, motivations, and consequences for European exploration and colonization of the Americ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794040" y="5065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The image “http://www.mce.k12tn.net/explorers/columbus_ships.gif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5000760" y="1905120"/>
            <a:ext cx="33336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(s) students will be meet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il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sear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given explo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il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scri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w different explorers impacted our world 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4098960" y="3389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1355760" y="3922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http://stillfootball.files.wordpress.com/2007/07/columbus.jpg"/>
          <p:cNvPicPr/>
          <p:nvPr/>
        </p:nvPicPr>
        <p:blipFill>
          <a:blip r:embed="rId1"/>
          <a:stretch/>
        </p:blipFill>
        <p:spPr>
          <a:xfrm rot="808800">
            <a:off x="3733920" y="3657600"/>
            <a:ext cx="2182680" cy="28576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4"/>
          <p:cNvSpPr/>
          <p:nvPr/>
        </p:nvSpPr>
        <p:spPr>
          <a:xfrm>
            <a:off x="440388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5" descr="The image “http://mclean.usd259.org/smith/links/explorers/champlain/champlain.gif” cannot be displayed, because it contains errors."/>
          <p:cNvPicPr/>
          <p:nvPr/>
        </p:nvPicPr>
        <p:blipFill>
          <a:blip r:embed="rId2"/>
          <a:stretch/>
        </p:blipFill>
        <p:spPr>
          <a:xfrm rot="21315600">
            <a:off x="5638320" y="1676520"/>
            <a:ext cx="257832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ill the students “do” to demonstrate their gained knowledge, understanding, and skills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il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re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PowerPoint about their assigned explorer using graphics and tex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il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es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ir PowerPoint to an audi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http://www.arrl.org/news/stories/2006/08/24/2/ARISS-Devonport-2-lrg.jpg"/>
          <p:cNvPicPr/>
          <p:nvPr/>
        </p:nvPicPr>
        <p:blipFill>
          <a:blip r:embed="rId1"/>
          <a:stretch/>
        </p:blipFill>
        <p:spPr>
          <a:xfrm>
            <a:off x="4676760" y="1676520"/>
            <a:ext cx="38577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akes it authentic or real to the students?  How does it connect to their real life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present their PowerPoint to a panel of judges.  Students must prove to the judges why their explorer should win the “Explorer of the Century” Awa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270160" y="4684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http://www.kids-birthday-party-guide.com/images/american-idol-judges.jpg"/>
          <p:cNvPicPr/>
          <p:nvPr/>
        </p:nvPicPr>
        <p:blipFill>
          <a:blip r:embed="rId1"/>
          <a:stretch/>
        </p:blipFill>
        <p:spPr>
          <a:xfrm>
            <a:off x="2133720" y="3657600"/>
            <a:ext cx="47242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weeks of Social Studi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MCj04348040000[1]"/>
          <p:cNvPicPr/>
          <p:nvPr/>
        </p:nvPicPr>
        <p:blipFill>
          <a:blip r:embed="rId1"/>
          <a:stretch/>
        </p:blipFill>
        <p:spPr>
          <a:xfrm>
            <a:off x="3124080" y="26668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nded Aud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, parents, panel of judges, students in the cla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The image “http://www.studyzone.org/testprep/ela4/g/audience2.gif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2819520" y="2895480"/>
            <a:ext cx="3686040" cy="30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Performance Task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(s) you will be 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(s) you will be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ill the students “do” to demonstrate their gained knowledge, understanding, and skills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makes it authentic or real to the students?  How does it connect to their real lif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ded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5699160" y="4684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MCj04347130000[1]"/>
          <p:cNvPicPr/>
          <p:nvPr/>
        </p:nvPicPr>
        <p:blipFill>
          <a:blip r:embed="rId1"/>
          <a:stretch/>
        </p:blipFill>
        <p:spPr>
          <a:xfrm>
            <a:off x="6553080" y="266688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ing the Student Direction Sh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troduction that motivates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escription of the final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ime 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eneral statement of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choolwork is authentic &amp; relevant, students engage in their learning &amp; become active participants in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e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pg. 67-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what a performance task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4 reasons why performance tasks are good for student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characteristics of good performance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lternative Assessm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method that differs from paper/pencil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ations, exhibitions, oral presentations, experiments, portfolios, interviews,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4800600" y="3792600"/>
            <a:ext cx="762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uthentic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 of a student’s ability to perform a real world/real life ta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plan, construct, &amp; deliver an original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are award of the evaluating criteria/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erformance Assessm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observes &amp; makes a judgment about a student’s demonstration of a skill/compet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s is on student’s ability to perform a task by producing their own work with their knowledge &amp;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haracteristics of Performance Assess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perform, create, construct, produce, or do some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understanding and/or reasoning skills are needed &amp; ass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s sustained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explain, justify, def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is observ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ies on teacher judgment for sc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e evaluative criteria/standards are requir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-specified quality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one single “correct”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uthentic, performance is grounded in real world con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trengths of Performance Assessmen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s assessment wit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occurs during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rtunities for formative assess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ds to be more authen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are engaged &amp; actively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ways for students to show knowledge/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s on reason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ablish specific evaluative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self-ass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-examine their instructional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en do you use performance assessment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udents demonstrate a sk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mo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udents generate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 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assignments where students use knowledge and sk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Performance Task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(s) you will be 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(s) you will be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ill the students “do” to demonstrate their gained knowledge, understanding, and skill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makes it authentic or real to the students?  How does it connect to their real lif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ded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9"/>
          <p:cNvSpPr/>
          <p:nvPr/>
        </p:nvSpPr>
        <p:spPr>
          <a:xfrm>
            <a:off x="5699160" y="4684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0" descr="MCj04347130000[1]"/>
          <p:cNvPicPr/>
          <p:nvPr/>
        </p:nvPicPr>
        <p:blipFill>
          <a:blip r:embed="rId1"/>
          <a:stretch/>
        </p:blipFill>
        <p:spPr>
          <a:xfrm>
            <a:off x="6553080" y="266688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15:29:37Z</dcterms:created>
  <dc:creator> </dc:creator>
  <dc:description/>
  <dc:language>en-US</dc:language>
  <cp:lastModifiedBy>EMU User</cp:lastModifiedBy>
  <dcterms:modified xsi:type="dcterms:W3CDTF">2011-03-28T10:22:45Z</dcterms:modified>
  <cp:revision>7</cp:revision>
  <dc:subject/>
  <dc:title>Creating Performance Assessments </dc:title>
</cp:coreProperties>
</file>